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D15B-49E1-430D-AB9C-B9CA2BAE8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66A2-9CA8-4087-8E05-A9553A631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70D0-47A1-499F-BDF1-131F6412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4733-66F0-4CCC-A33D-5752CE45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5E95-DF23-4323-8B2D-4826862D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EC53-E9F0-4382-9FD4-AE5B5C51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0E43-F3C2-4F72-9A98-AFE302B1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315A-7FB1-40AF-BCBA-D04CEEA1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1B83-D998-4891-91C9-7A630880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9BB0-BD39-49F6-B6DC-6B823BF0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F959-8BC4-494E-ABEE-66C8BBA1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2B5C-06FB-4A59-AF56-6496BBD3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3F49-4FF8-4CE4-9A61-8B72DA88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F448-04E9-4079-8E8F-05DE8467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5F7B-028E-4368-8E05-15812E24A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4 A central place is designed to maxim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olitical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eligious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gricultural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ccess to raw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Access to serv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5 According to the gravity model, the optimal location for a busines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dependent of distance from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Directly related to the number of people in th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ext to businesses offering similar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 the Central Business Distr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djacent to large government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5 According to the gravity model, the optimal location for a busines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dependent of distance from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ly related to the number of people 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ext to businesses offering similar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 the Central Business Distr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djacent to large government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6 Central place theory uses a nesting serie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riang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qua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Pentag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exag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Octag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6 Central place theory uses a nesting serie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riang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qua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Pentag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Hexag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Octag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7 The city-state model is best exemplified by an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gy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Gre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7 The city-state model is best exemplified by an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gy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Gre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8 Which of the following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world-c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os Ang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Lo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en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ok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8 Which of the following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world-c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os Ang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Lo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Den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ok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12_14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46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1 In which region do services contribut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alle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ion to the econo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e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9 CBD retail services are least likely to have the following characterist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rimarily rural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igh thresho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igh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ervices for office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 are typical characteristics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BD retai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9 CBD retail services are least likely to have the following characterist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Primarily rural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igh thresho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igh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ervices for office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 are typical characteristics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BD retai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10 In the United States, services are predominately moving to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 scenic rural areas far from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n the Central Business Distr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ispersed evenly throughout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 malls near suburb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ith the lowest labo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10 In the United States, services are predominately moving to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 scenic rural areas far from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n the Central Business Distr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ispersed evenly throughout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In malls near suburb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ith the lowest labo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1 In which region do services contribut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alle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ion to the econo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e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12_01"/>
          <p:cNvPicPr/>
          <p:nvPr/>
        </p:nvPicPr>
        <p:blipFill>
          <a:blip r:embed="rId1"/>
          <a:stretch/>
        </p:blipFill>
        <p:spPr>
          <a:xfrm>
            <a:off x="685800" y="520560"/>
            <a:ext cx="792468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2 In contrast to the United States, most people in the world live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mall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arge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lustered rural sett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ispersed rural sett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oderate-sized tow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2 In contrast to the United States, most people in the world live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mall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arge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Clustered rural sett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ispersed rural sett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oderate-sized tow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3 The enclosure movement in Great Britain was carried out primarily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dvance 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ncrease agricultural efficie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Quell labor un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quash the revolutionary spirit of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sa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ncourage rural citizens to move to cluster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ral sett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3 The enclosure movement in Great Britain was carried out primarily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dvance 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Increase agricultural effici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Quell labor un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quash the revolutionary spirit of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sa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ncourage rural citizens to move to cluster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ral sett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4 A central place is designed to maxim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olitical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eligious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gricultural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ccess to raw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ccess to serv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Unity Rain</cp:lastModifiedBy>
  <dcterms:modified xsi:type="dcterms:W3CDTF">2011-04-24T23:15:51Z</dcterms:modified>
  <cp:revision>83</cp:revision>
  <dc:subject/>
  <dc:title>CRS Chapter 4</dc:title>
</cp:coreProperties>
</file>